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B6A8-6DBA-461F-9DBA-D5004972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AA6A-3FB4-4EA7-9D92-4B6359A3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F7F-4B6E-4705-9EBD-F4D7D38A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638-8F2E-494D-85AA-1FF7E5A3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2C10-3B76-4532-AD55-575D036F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73A7-F141-4113-8316-96AB682D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lezione naturale delle teorie (p. 1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E35E-3FE8-4A24-A19D-2356D1D6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C00-CFB5-4122-9287-C299465B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139A-7D33-49F2-B1DA-4CC23947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03D-7E33-41B0-803C-43C79C7F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C2DE-1A10-4D22-8EB2-53D4AA1C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732F-D663-4EE5-AA35-9B69F9F8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E6E7-9E35-4913-8F61-4176E59A7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15D7-FFE1-42C7-A5B6-E213FEA8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B044-BB84-45A9-AEFF-85757F0F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4BB2-C424-4EDF-A2BD-D75C0E43A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7B8-D10D-441A-AF64-DF49CDC7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BACA-7789-49E2-878E-9A7F09F17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 una asimmetria fra verificabilità e falsificabilità: la seconda è possibile, la prima no (La logica della scoperta scientifica, p. 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metodo della falsificazione è logico, quindi fondato su basi non dubitabili (p. 24-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8D73-0046-4CAB-8B2B-C7FFFD15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6E7-CE2F-4914-8B41-C0E40A99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35A-8DA9-450A-A222-DED82128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759-674E-45CE-8E9A-6290A843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465-A125-44FB-BA8F-C1DC0AE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2AD-DE0E-49BE-B0A7-9A976B52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291-ACAF-46B2-BCA2-38C4ECF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471-85EE-46EF-A4B0-B43D9A98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F74-3DA6-4ABC-90E1-7410B234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624-923A-4198-A56F-7404EB65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B5F-A3E8-4C24-A099-FFC4DE4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91D-4684-4483-B3CF-49F0DE4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A57-F72D-4B35-A293-058E550F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B37-A197-4F4F-95F1-0EE89175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1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038240" y="252108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damenti epistemologici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47292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67520" y="327960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181160" y="3460680"/>
            <a:ext cx="214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088000" y="297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622160" y="372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583000" y="312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357640" y="3525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488120" y="274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959280" y="3460680"/>
            <a:ext cx="2141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267520" y="2928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834080" y="371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204960" y="3156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6659640" y="3460680"/>
            <a:ext cx="213984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196320" y="327024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878200" y="41112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sificazi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Popper"/>
          <p:cNvPicPr/>
          <p:nvPr/>
        </p:nvPicPr>
        <p:blipFill>
          <a:blip r:embed="rId1"/>
          <a:stretch/>
        </p:blipFill>
        <p:spPr>
          <a:xfrm>
            <a:off x="5556240" y="1220760"/>
            <a:ext cx="3637080" cy="430848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"/>
          <p:cNvSpPr/>
          <p:nvPr/>
        </p:nvSpPr>
        <p:spPr>
          <a:xfrm>
            <a:off x="620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arl Popp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02 –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1"/>
          <p:cNvSpPr/>
          <p:nvPr/>
        </p:nvSpPr>
        <p:spPr>
          <a:xfrm>
            <a:off x="592920" y="21477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Falsificazion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1"/>
          <p:cNvSpPr/>
          <p:nvPr/>
        </p:nvSpPr>
        <p:spPr>
          <a:xfrm>
            <a:off x="620640" y="3174840"/>
            <a:ext cx="4556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teorie scientific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v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sere falsific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5"/>
          <p:cNvSpPr/>
          <p:nvPr/>
        </p:nvSpPr>
        <p:spPr>
          <a:xfrm>
            <a:off x="620640" y="4562640"/>
            <a:ext cx="4556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esserlo,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v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are predizioni verific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sellaDiTesto 2"/>
          <p:cNvSpPr/>
          <p:nvPr/>
        </p:nvSpPr>
        <p:spPr>
          <a:xfrm>
            <a:off x="1079640" y="3349800"/>
            <a:ext cx="774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anche formulassimo una teoria scientifica perfettamente aderente alla realtà, non potremmo saperlo, perché l’unica verifica logicamente accettabile sarebbe effettuare tutte le osservazioni e tutti gli esperimenti concepibili, il che è evidentemente imposs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1"/>
          <p:cNvSpPr/>
          <p:nvPr/>
        </p:nvSpPr>
        <p:spPr>
          <a:xfrm>
            <a:off x="555480" y="1496880"/>
            <a:ext cx="87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conoscenza umana rimane fallibile, conget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47292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467520" y="327960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181160" y="3460680"/>
            <a:ext cx="214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088000" y="297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22160" y="372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83000" y="312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357640" y="3525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488120" y="274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959280" y="3460680"/>
            <a:ext cx="2141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67520" y="2928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834080" y="371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19704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6659640" y="3460680"/>
            <a:ext cx="213984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175800" y="325116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2878200" y="41112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sificazi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Mostrina 2"/>
          <p:cNvSpPr/>
          <p:nvPr/>
        </p:nvSpPr>
        <p:spPr>
          <a:xfrm>
            <a:off x="1324080" y="5060880"/>
            <a:ext cx="7318440" cy="376200"/>
          </a:xfrm>
          <a:custGeom>
            <a:avLst/>
            <a:gdLst>
              <a:gd name="textAreaLeft" fmla="*/ 0 w 7318440"/>
              <a:gd name="textAreaRight" fmla="*/ 7318800 w 73184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44" y="0"/>
                </a:lnTo>
                <a:lnTo>
                  <a:pt x="21600" y="10800"/>
                </a:lnTo>
                <a:lnTo>
                  <a:pt x="21044" y="21600"/>
                </a:lnTo>
                <a:lnTo>
                  <a:pt x="0" y="21600"/>
                </a:lnTo>
                <a:lnTo>
                  <a:pt x="556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asellaDiTesto 1"/>
          <p:cNvSpPr/>
          <p:nvPr/>
        </p:nvSpPr>
        <p:spPr>
          <a:xfrm>
            <a:off x="550800" y="536400"/>
            <a:ext cx="88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ardiomiociti adulti sono terminalmente differenziati (postmitot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magine 2" descr="Anversa Title.jpg"/>
          <p:cNvPicPr/>
          <p:nvPr/>
        </p:nvPicPr>
        <p:blipFill>
          <a:blip r:embed="rId1"/>
          <a:stretch/>
        </p:blipFill>
        <p:spPr>
          <a:xfrm>
            <a:off x="341280" y="2158920"/>
            <a:ext cx="9225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magine 1" descr="Anversa figure.jpg"/>
          <p:cNvPicPr/>
          <p:nvPr/>
        </p:nvPicPr>
        <p:blipFill>
          <a:blip r:embed="rId1"/>
          <a:stretch/>
        </p:blipFill>
        <p:spPr>
          <a:xfrm>
            <a:off x="1031760" y="0"/>
            <a:ext cx="782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sellaDiTesto 1"/>
          <p:cNvSpPr/>
          <p:nvPr/>
        </p:nvSpPr>
        <p:spPr>
          <a:xfrm>
            <a:off x="555480" y="1496880"/>
            <a:ext cx="87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conoscenza umana rimane fallibile, conget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1"/>
          <p:cNvSpPr/>
          <p:nvPr/>
        </p:nvSpPr>
        <p:spPr>
          <a:xfrm>
            <a:off x="1058760" y="3840120"/>
            <a:ext cx="38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la matemat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asellaDiTesto 1"/>
          <p:cNvSpPr/>
          <p:nvPr/>
        </p:nvSpPr>
        <p:spPr>
          <a:xfrm>
            <a:off x="620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urt Gödel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06 – 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1"/>
          <p:cNvSpPr/>
          <p:nvPr/>
        </p:nvSpPr>
        <p:spPr>
          <a:xfrm>
            <a:off x="620640" y="3857760"/>
            <a:ext cx="45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31: teoremi di incomple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magine 1" descr="Kurt_gödel.jpg"/>
          <p:cNvPicPr/>
          <p:nvPr/>
        </p:nvPicPr>
        <p:blipFill>
          <a:blip r:embed="rId1"/>
          <a:stretch/>
        </p:blipFill>
        <p:spPr>
          <a:xfrm>
            <a:off x="5796000" y="1220760"/>
            <a:ext cx="33987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e 1"/>
          <p:cNvSpPr/>
          <p:nvPr/>
        </p:nvSpPr>
        <p:spPr>
          <a:xfrm>
            <a:off x="151128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e 3"/>
          <p:cNvSpPr/>
          <p:nvPr/>
        </p:nvSpPr>
        <p:spPr>
          <a:xfrm>
            <a:off x="198900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e 4"/>
          <p:cNvSpPr/>
          <p:nvPr/>
        </p:nvSpPr>
        <p:spPr>
          <a:xfrm>
            <a:off x="246528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e 5"/>
          <p:cNvSpPr/>
          <p:nvPr/>
        </p:nvSpPr>
        <p:spPr>
          <a:xfrm>
            <a:off x="294156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6"/>
          <p:cNvSpPr/>
          <p:nvPr/>
        </p:nvSpPr>
        <p:spPr>
          <a:xfrm>
            <a:off x="341784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2"/>
          <p:cNvSpPr/>
          <p:nvPr/>
        </p:nvSpPr>
        <p:spPr>
          <a:xfrm>
            <a:off x="1733400" y="4294080"/>
            <a:ext cx="443160" cy="44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tangolo 8"/>
          <p:cNvSpPr/>
          <p:nvPr/>
        </p:nvSpPr>
        <p:spPr>
          <a:xfrm>
            <a:off x="3044880" y="4294080"/>
            <a:ext cx="442800" cy="44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tangolo 9"/>
          <p:cNvSpPr/>
          <p:nvPr/>
        </p:nvSpPr>
        <p:spPr>
          <a:xfrm>
            <a:off x="2136600" y="3325680"/>
            <a:ext cx="443160" cy="44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tangolo 10"/>
          <p:cNvSpPr/>
          <p:nvPr/>
        </p:nvSpPr>
        <p:spPr>
          <a:xfrm>
            <a:off x="3689280" y="3325680"/>
            <a:ext cx="443160" cy="44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11"/>
          <p:cNvSpPr/>
          <p:nvPr/>
        </p:nvSpPr>
        <p:spPr>
          <a:xfrm>
            <a:off x="755640" y="3325680"/>
            <a:ext cx="444600" cy="44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2"/>
          <p:cNvSpPr/>
          <p:nvPr/>
        </p:nvSpPr>
        <p:spPr>
          <a:xfrm>
            <a:off x="2892600" y="2308320"/>
            <a:ext cx="44424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13"/>
          <p:cNvSpPr/>
          <p:nvPr/>
        </p:nvSpPr>
        <p:spPr>
          <a:xfrm>
            <a:off x="4505400" y="2308320"/>
            <a:ext cx="44460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14"/>
          <p:cNvSpPr/>
          <p:nvPr/>
        </p:nvSpPr>
        <p:spPr>
          <a:xfrm>
            <a:off x="90360" y="2308320"/>
            <a:ext cx="44460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15"/>
          <p:cNvSpPr/>
          <p:nvPr/>
        </p:nvSpPr>
        <p:spPr>
          <a:xfrm>
            <a:off x="2268360" y="2308320"/>
            <a:ext cx="44316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ttore 1 16"/>
          <p:cNvSpPr/>
          <p:nvPr/>
        </p:nvSpPr>
        <p:spPr>
          <a:xfrm flipV="1">
            <a:off x="1724040" y="4838760"/>
            <a:ext cx="120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18"/>
          <p:cNvSpPr/>
          <p:nvPr/>
        </p:nvSpPr>
        <p:spPr>
          <a:xfrm>
            <a:off x="2036880" y="4818240"/>
            <a:ext cx="53316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20"/>
          <p:cNvSpPr/>
          <p:nvPr/>
        </p:nvSpPr>
        <p:spPr>
          <a:xfrm flipV="1">
            <a:off x="3105000" y="4838760"/>
            <a:ext cx="12096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nettore 1 21"/>
          <p:cNvSpPr/>
          <p:nvPr/>
        </p:nvSpPr>
        <p:spPr>
          <a:xfrm flipH="1" flipV="1">
            <a:off x="574200" y="2873520"/>
            <a:ext cx="12060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22"/>
          <p:cNvSpPr/>
          <p:nvPr/>
        </p:nvSpPr>
        <p:spPr>
          <a:xfrm flipH="1" flipV="1">
            <a:off x="3427200" y="4838760"/>
            <a:ext cx="120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nnettore 1 23"/>
          <p:cNvSpPr/>
          <p:nvPr/>
        </p:nvSpPr>
        <p:spPr>
          <a:xfrm flipV="1">
            <a:off x="2085840" y="3849840"/>
            <a:ext cx="1224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nettore 1 24"/>
          <p:cNvSpPr/>
          <p:nvPr/>
        </p:nvSpPr>
        <p:spPr>
          <a:xfrm>
            <a:off x="2409840" y="3840120"/>
            <a:ext cx="58428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nettore 1 26"/>
          <p:cNvSpPr/>
          <p:nvPr/>
        </p:nvSpPr>
        <p:spPr>
          <a:xfrm flipV="1">
            <a:off x="1835280" y="3759120"/>
            <a:ext cx="164304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nettore 1 28"/>
          <p:cNvSpPr/>
          <p:nvPr/>
        </p:nvSpPr>
        <p:spPr>
          <a:xfrm flipV="1">
            <a:off x="3557520" y="3849840"/>
            <a:ext cx="1224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ttore 1 29"/>
          <p:cNvSpPr/>
          <p:nvPr/>
        </p:nvSpPr>
        <p:spPr>
          <a:xfrm flipV="1">
            <a:off x="1189080" y="2750760"/>
            <a:ext cx="987480" cy="4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nettore 1 19455"/>
          <p:cNvSpPr/>
          <p:nvPr/>
        </p:nvSpPr>
        <p:spPr>
          <a:xfrm flipV="1">
            <a:off x="1339920" y="2862360"/>
            <a:ext cx="15732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onnettore 1 19458"/>
          <p:cNvSpPr/>
          <p:nvPr/>
        </p:nvSpPr>
        <p:spPr>
          <a:xfrm flipH="1" flipV="1">
            <a:off x="3154320" y="2843280"/>
            <a:ext cx="52560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ttore 1 19460"/>
          <p:cNvSpPr/>
          <p:nvPr/>
        </p:nvSpPr>
        <p:spPr>
          <a:xfrm flipV="1">
            <a:off x="2630520" y="2892600"/>
            <a:ext cx="342720" cy="28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ttore 1 19462"/>
          <p:cNvSpPr/>
          <p:nvPr/>
        </p:nvSpPr>
        <p:spPr>
          <a:xfrm flipH="1" flipV="1">
            <a:off x="926640" y="3890880"/>
            <a:ext cx="1119240" cy="13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nettore 1 19464"/>
          <p:cNvSpPr/>
          <p:nvPr/>
        </p:nvSpPr>
        <p:spPr>
          <a:xfrm flipH="1" flipV="1">
            <a:off x="1309680" y="3487680"/>
            <a:ext cx="73656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ttore 1 19466"/>
          <p:cNvSpPr/>
          <p:nvPr/>
        </p:nvSpPr>
        <p:spPr>
          <a:xfrm flipH="1" flipV="1">
            <a:off x="1239840" y="3839760"/>
            <a:ext cx="4032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nettore 1 19468"/>
          <p:cNvSpPr/>
          <p:nvPr/>
        </p:nvSpPr>
        <p:spPr>
          <a:xfrm flipV="1">
            <a:off x="4132440" y="2852280"/>
            <a:ext cx="47448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ttore 1 19470"/>
          <p:cNvSpPr/>
          <p:nvPr/>
        </p:nvSpPr>
        <p:spPr>
          <a:xfrm flipH="1" flipV="1">
            <a:off x="644040" y="2781360"/>
            <a:ext cx="1311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nettore 1 19472"/>
          <p:cNvSpPr/>
          <p:nvPr/>
        </p:nvSpPr>
        <p:spPr>
          <a:xfrm flipV="1">
            <a:off x="2690640" y="2781360"/>
            <a:ext cx="169416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nettore 1 19474"/>
          <p:cNvSpPr/>
          <p:nvPr/>
        </p:nvSpPr>
        <p:spPr>
          <a:xfrm flipH="1" flipV="1">
            <a:off x="140760" y="1723680"/>
            <a:ext cx="141480" cy="39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nettore 1 19476"/>
          <p:cNvSpPr/>
          <p:nvPr/>
        </p:nvSpPr>
        <p:spPr>
          <a:xfrm flipV="1">
            <a:off x="484200" y="1420560"/>
            <a:ext cx="1724040" cy="66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nettore 1 19478"/>
          <p:cNvSpPr/>
          <p:nvPr/>
        </p:nvSpPr>
        <p:spPr>
          <a:xfrm flipH="1" flipV="1">
            <a:off x="1028520" y="1320840"/>
            <a:ext cx="1360440" cy="81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ttore 1 55"/>
          <p:cNvSpPr/>
          <p:nvPr/>
        </p:nvSpPr>
        <p:spPr>
          <a:xfrm flipV="1">
            <a:off x="2530440" y="1854360"/>
            <a:ext cx="343080" cy="28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ttore 1 19480"/>
          <p:cNvSpPr/>
          <p:nvPr/>
        </p:nvSpPr>
        <p:spPr>
          <a:xfrm flipV="1">
            <a:off x="3246480" y="1531800"/>
            <a:ext cx="1812960" cy="5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nettore 1 19482"/>
          <p:cNvSpPr/>
          <p:nvPr/>
        </p:nvSpPr>
        <p:spPr>
          <a:xfrm flipH="1" flipV="1">
            <a:off x="3114720" y="1230120"/>
            <a:ext cx="1441440" cy="9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nettore 1 19484"/>
          <p:cNvSpPr/>
          <p:nvPr/>
        </p:nvSpPr>
        <p:spPr>
          <a:xfrm flipV="1">
            <a:off x="4838760" y="1371240"/>
            <a:ext cx="825480" cy="82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sellaDiTesto 19485"/>
          <p:cNvSpPr/>
          <p:nvPr/>
        </p:nvSpPr>
        <p:spPr>
          <a:xfrm>
            <a:off x="5568840" y="2419200"/>
            <a:ext cx="41515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o teorema di Göd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un sistema è congruente, non può essere compl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63"/>
          <p:cNvSpPr/>
          <p:nvPr/>
        </p:nvSpPr>
        <p:spPr>
          <a:xfrm>
            <a:off x="5554800" y="4213080"/>
            <a:ext cx="418464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condo teorema di Göd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congruenza degli assiomi di un sistema non può essere provata all’interno del sistema st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73280" y="245592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o ci fidiamo della sci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sellaDiTesto 1"/>
          <p:cNvSpPr/>
          <p:nvPr/>
        </p:nvSpPr>
        <p:spPr>
          <a:xfrm>
            <a:off x="1038240" y="2049480"/>
            <a:ext cx="7829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nduttivism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acon, 16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ge scientifica come risultato di un grande numero di osserv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1"/>
          <p:cNvSpPr/>
          <p:nvPr/>
        </p:nvSpPr>
        <p:spPr>
          <a:xfrm>
            <a:off x="1038240" y="4222800"/>
            <a:ext cx="78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Verificazionism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mte e positivisti, dal 18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tativo di trovare il metodo attraverso il quale una legge scientifica può esse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fic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ioè dimostrata 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1"/>
          <p:cNvSpPr/>
          <p:nvPr/>
        </p:nvSpPr>
        <p:spPr>
          <a:xfrm>
            <a:off x="488880" y="496800"/>
            <a:ext cx="89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ndamenti filosofici della scienza: epistem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Popper"/>
          <p:cNvPicPr/>
          <p:nvPr/>
        </p:nvPicPr>
        <p:blipFill>
          <a:blip r:embed="rId1"/>
          <a:stretch/>
        </p:blipFill>
        <p:spPr>
          <a:xfrm>
            <a:off x="5556240" y="1220760"/>
            <a:ext cx="3637080" cy="43084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1"/>
          <p:cNvSpPr/>
          <p:nvPr/>
        </p:nvSpPr>
        <p:spPr>
          <a:xfrm>
            <a:off x="566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arl Popp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02 –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1"/>
          <p:cNvSpPr/>
          <p:nvPr/>
        </p:nvSpPr>
        <p:spPr>
          <a:xfrm>
            <a:off x="539280" y="46911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Falsificazion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1"/>
          <p:cNvSpPr/>
          <p:nvPr/>
        </p:nvSpPr>
        <p:spPr>
          <a:xfrm>
            <a:off x="566640" y="2873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logica della scoperta scientifi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1934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081080" y="15177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utazione dell’induttiv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white-swan"/>
          <p:cNvPicPr/>
          <p:nvPr/>
        </p:nvPicPr>
        <p:blipFill>
          <a:blip r:embed="rId1"/>
          <a:stretch/>
        </p:blipFill>
        <p:spPr>
          <a:xfrm>
            <a:off x="1081080" y="289404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white-swan"/>
          <p:cNvPicPr/>
          <p:nvPr/>
        </p:nvPicPr>
        <p:blipFill>
          <a:blip r:embed="rId2"/>
          <a:stretch/>
        </p:blipFill>
        <p:spPr>
          <a:xfrm>
            <a:off x="3570120" y="289404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white-swan"/>
          <p:cNvPicPr/>
          <p:nvPr/>
        </p:nvPicPr>
        <p:blipFill>
          <a:blip r:embed="rId3"/>
          <a:stretch/>
        </p:blipFill>
        <p:spPr>
          <a:xfrm>
            <a:off x="2325600" y="2894040"/>
            <a:ext cx="1005120" cy="565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white-swan"/>
          <p:cNvPicPr/>
          <p:nvPr/>
        </p:nvPicPr>
        <p:blipFill>
          <a:blip r:embed="rId4"/>
          <a:stretch/>
        </p:blipFill>
        <p:spPr>
          <a:xfrm>
            <a:off x="4815000" y="2894040"/>
            <a:ext cx="1006200" cy="56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white-swan"/>
          <p:cNvPicPr/>
          <p:nvPr/>
        </p:nvPicPr>
        <p:blipFill>
          <a:blip r:embed="rId5"/>
          <a:stretch/>
        </p:blipFill>
        <p:spPr>
          <a:xfrm>
            <a:off x="1081080" y="385272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white-swan"/>
          <p:cNvPicPr/>
          <p:nvPr/>
        </p:nvPicPr>
        <p:blipFill>
          <a:blip r:embed="rId6"/>
          <a:stretch/>
        </p:blipFill>
        <p:spPr>
          <a:xfrm>
            <a:off x="2325600" y="3852720"/>
            <a:ext cx="1005120" cy="56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white-swan"/>
          <p:cNvPicPr/>
          <p:nvPr/>
        </p:nvPicPr>
        <p:blipFill>
          <a:blip r:embed="rId7"/>
          <a:stretch/>
        </p:blipFill>
        <p:spPr>
          <a:xfrm>
            <a:off x="3570120" y="385272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white-swan"/>
          <p:cNvPicPr/>
          <p:nvPr/>
        </p:nvPicPr>
        <p:blipFill>
          <a:blip r:embed="rId8"/>
          <a:stretch/>
        </p:blipFill>
        <p:spPr>
          <a:xfrm>
            <a:off x="4815000" y="3852720"/>
            <a:ext cx="1006200" cy="56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ite-swan"/>
          <p:cNvPicPr/>
          <p:nvPr/>
        </p:nvPicPr>
        <p:blipFill>
          <a:blip r:embed="rId9"/>
          <a:stretch/>
        </p:blipFill>
        <p:spPr>
          <a:xfrm>
            <a:off x="1081080" y="481320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white-swan"/>
          <p:cNvPicPr/>
          <p:nvPr/>
        </p:nvPicPr>
        <p:blipFill>
          <a:blip r:embed="rId10"/>
          <a:stretch/>
        </p:blipFill>
        <p:spPr>
          <a:xfrm>
            <a:off x="2325600" y="4813200"/>
            <a:ext cx="100512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white-swan"/>
          <p:cNvPicPr/>
          <p:nvPr/>
        </p:nvPicPr>
        <p:blipFill>
          <a:blip r:embed="rId11"/>
          <a:stretch/>
        </p:blipFill>
        <p:spPr>
          <a:xfrm>
            <a:off x="3570120" y="481320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black-swan"/>
          <p:cNvPicPr/>
          <p:nvPr/>
        </p:nvPicPr>
        <p:blipFill>
          <a:blip r:embed="rId12"/>
          <a:stretch/>
        </p:blipFill>
        <p:spPr>
          <a:xfrm>
            <a:off x="4792680" y="4808520"/>
            <a:ext cx="1028520" cy="56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Popper"/>
          <p:cNvPicPr/>
          <p:nvPr/>
        </p:nvPicPr>
        <p:blipFill>
          <a:blip r:embed="rId13"/>
          <a:stretch/>
        </p:blipFill>
        <p:spPr>
          <a:xfrm>
            <a:off x="7477200" y="3346560"/>
            <a:ext cx="1717560" cy="2031840"/>
          </a:xfrm>
          <a:prstGeom prst="rect">
            <a:avLst/>
          </a:prstGeom>
          <a:ln w="0">
            <a:noFill/>
          </a:ln>
        </p:spPr>
      </p:pic>
      <p:pic>
        <p:nvPicPr>
          <p:cNvPr id="71" name="Immagine 1" descr="aristotle.jpg"/>
          <p:cNvPicPr/>
          <p:nvPr/>
        </p:nvPicPr>
        <p:blipFill>
          <a:blip r:embed="rId14"/>
          <a:stretch/>
        </p:blipFill>
        <p:spPr>
          <a:xfrm>
            <a:off x="7477200" y="642960"/>
            <a:ext cx="1725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90612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1"/>
          <p:cNvSpPr/>
          <p:nvPr/>
        </p:nvSpPr>
        <p:spPr>
          <a:xfrm>
            <a:off x="1079640" y="4384800"/>
            <a:ext cx="774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c’è modo di verificare una teoria (dimostrare che e’ vera in senso assoluto), perché non esiste un criterio di verità, né logico né empi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uppo 11"/>
          <p:cNvGrpSpPr/>
          <p:nvPr/>
        </p:nvGrpSpPr>
        <p:grpSpPr>
          <a:xfrm>
            <a:off x="4316040" y="1287360"/>
            <a:ext cx="1273680" cy="498600"/>
            <a:chOff x="4316040" y="1287360"/>
            <a:chExt cx="1273680" cy="498600"/>
          </a:xfrm>
        </p:grpSpPr>
        <p:cxnSp>
          <p:nvCxnSpPr>
            <p:cNvPr id="75" name="Connettore 2 6"/>
            <p:cNvCxnSpPr/>
            <p:nvPr/>
          </p:nvCxnSpPr>
          <p:spPr>
            <a:xfrm flipV="1">
              <a:off x="4316040" y="1776240"/>
              <a:ext cx="127404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6" name="CasellaDiTesto 7"/>
            <p:cNvSpPr/>
            <p:nvPr/>
          </p:nvSpPr>
          <p:spPr>
            <a:xfrm>
              <a:off x="4622040" y="1287360"/>
              <a:ext cx="6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po 10"/>
          <p:cNvGrpSpPr/>
          <p:nvPr/>
        </p:nvGrpSpPr>
        <p:grpSpPr>
          <a:xfrm>
            <a:off x="1987560" y="846000"/>
            <a:ext cx="2017800" cy="2513520"/>
            <a:chOff x="1987560" y="846000"/>
            <a:chExt cx="2017800" cy="2513520"/>
          </a:xfrm>
        </p:grpSpPr>
        <p:sp>
          <p:nvSpPr>
            <p:cNvPr id="78" name="Ovale 2"/>
            <p:cNvSpPr/>
            <p:nvPr/>
          </p:nvSpPr>
          <p:spPr>
            <a:xfrm>
              <a:off x="1987560" y="846000"/>
              <a:ext cx="2017800" cy="1863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CasellaDiTesto 8"/>
            <p:cNvSpPr/>
            <p:nvPr/>
          </p:nvSpPr>
          <p:spPr>
            <a:xfrm>
              <a:off x="2272680" y="299124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e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"/>
          <p:cNvGrpSpPr/>
          <p:nvPr/>
        </p:nvGrpSpPr>
        <p:grpSpPr>
          <a:xfrm>
            <a:off x="5900760" y="846000"/>
            <a:ext cx="2017800" cy="2513520"/>
            <a:chOff x="5900760" y="846000"/>
            <a:chExt cx="2017800" cy="2513520"/>
          </a:xfrm>
        </p:grpSpPr>
        <p:sp>
          <p:nvSpPr>
            <p:cNvPr id="81" name="Ovale 3"/>
            <p:cNvSpPr/>
            <p:nvPr/>
          </p:nvSpPr>
          <p:spPr>
            <a:xfrm>
              <a:off x="5900760" y="846000"/>
              <a:ext cx="2017800" cy="1863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asellaDiTesto 9"/>
            <p:cNvSpPr/>
            <p:nvPr/>
          </p:nvSpPr>
          <p:spPr>
            <a:xfrm>
              <a:off x="6185880" y="299124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al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sellaDiTesto 1"/>
          <p:cNvSpPr/>
          <p:nvPr/>
        </p:nvSpPr>
        <p:spPr>
          <a:xfrm>
            <a:off x="919080" y="14968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teorie scientifiche non possono essere dimo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1"/>
          <p:cNvSpPr/>
          <p:nvPr/>
        </p:nvSpPr>
        <p:spPr>
          <a:xfrm>
            <a:off x="919080" y="379260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possono essere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falsifica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cioè dimostrate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347292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67520" y="327960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878200" y="41112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sificazi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81160" y="3460680"/>
            <a:ext cx="214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88000" y="297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22160" y="372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83000" y="312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357640" y="3525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488120" y="274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3959280" y="3460680"/>
            <a:ext cx="2141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67520" y="2928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4834080" y="371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59:32Z</dcterms:created>
  <dc:creator>Marco Crescenzi</dc:creator>
  <dc:description/>
  <dc:language>en-US</dc:language>
  <cp:lastModifiedBy>Crescenzi Marco</cp:lastModifiedBy>
  <cp:lastPrinted>2015-10-21T09:47:50Z</cp:lastPrinted>
  <dcterms:modified xsi:type="dcterms:W3CDTF">2021-04-19T09:51:59Z</dcterms:modified>
  <cp:revision>180</cp:revision>
  <dc:subject/>
  <dc:title>PowerPoint Presentation</dc:title>
</cp:coreProperties>
</file>